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219-D25B-4E2F-ABC1-BDDD51B1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888-9196-47BF-B426-8F4068A5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41A-1BB7-4505-BD3E-A1A4FA59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59A-CF85-4DF9-8E04-96C3E91E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49E-E842-42CE-AEC9-243D065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0F3-2448-474C-BAE1-50FCE0AF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716-2AAC-4DBA-A51D-C9E6E16D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2D2-6CF2-43D4-B972-9202E013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E78-F02A-4E28-BFB8-26925A74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054-8413-4914-B00B-88E1E213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484-B6D4-4C5B-9794-B59EC757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EC8-4E90-49ED-B97E-DEBF8724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66F1-0D62-44CE-90CB-5FCF8AC6D8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1 2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 de Vries</cp:lastModifiedBy>
  <dcterms:modified xsi:type="dcterms:W3CDTF">2003-07-04T14:16:03Z</dcterms:modified>
  <cp:revision>1</cp:revision>
  <dc:subject/>
  <dc:title>PowerPoint Presentation</dc:title>
</cp:coreProperties>
</file>